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614-9F05-4109-988E-31609EDA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6BD-82F7-4913-A0F5-61FE7CBB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A10-0681-47D5-BD7B-E8377C1F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646-049C-4135-B39B-F2D0669B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4E2D-3A6C-4180-9DAD-FCD5F220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76D4-5581-43B8-A20D-CFF25F0A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B033-5922-4967-A795-579C6EB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4C05-17F6-4067-86E9-615974C8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3F04-EBC6-406B-9D02-49CD44F0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1B9-5DC6-4EEB-BA3D-3500AF2D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6917-F994-469F-9944-0C8A290D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A36-FD5F-4836-8E8B-17138D86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5B85-5B03-4477-9548-12662B7B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D387-43CF-426E-86E0-A074FBD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A54A-2872-4378-8796-F6110A78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07AF-251B-4991-8199-6A1DC618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D688-CEB7-402F-9BD7-C90B6658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33920-DBBD-411C-A7C5-8C70AC0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45658-C074-4D06-A324-47CF4B14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63B24-75BD-4126-85E2-B3B6AB95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E66BA-1BCE-498D-B27F-6B801F2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63CD6-BAE0-4EA5-A695-9DC6D73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A3F-5848-4F4B-8205-7212DDE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4A914-F7FE-4622-B0EE-897191FF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DC36E-9F63-4568-8D75-E4E51416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B6B7A-58FD-4AC7-A134-AAA0ADCF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49722-D3FD-4B64-9361-5813204B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C736D-39B7-48AF-8ECE-2A533946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AB5C6-20A6-405C-8B42-3EECA5FB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78F9F-E1BF-4B6E-B509-FF1B4740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759CD-5891-45C0-A6E8-864B6EEA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478D9-67B4-4E4D-841E-FC2E28E0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BF64C-6896-4484-8CB9-CFF614EB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56F-9C14-4D7E-922D-8F8A7316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4FE05-0FE6-408E-9671-1BA376B0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78556-C55C-418B-AAEC-85548FEA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377D7-0DC4-4035-8773-D37A1560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BA151-F29E-410C-9DA4-2930E749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FBF58-D091-41B5-816F-BE9B4E5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43803-2502-4B25-8098-AF0586D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42475-5056-4AF4-80EC-F44EB836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274F9-FDA4-4338-814A-40F5C60D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D2972-A186-4F59-AB41-B75D1664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8DA2D-C73D-4581-9C97-3A1C54ED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C86-F2BD-42E9-83C1-9E900527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971A6-D60B-4959-9A46-88418481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02079-6399-44D8-A593-5048EC1B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E52AC-2807-4E5A-86BC-FED06BC3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2F99C-0D6D-433F-B098-B201F5FF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18B72-5B29-4909-8448-12004209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43223-B846-4934-BDEE-1765E489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1E26B-A739-4050-B292-D5AE9365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88465-7E4B-4E5F-A7D7-C2EEF56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F547D-6A25-4BB3-B7E0-66848351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1542E-78A8-48E6-BC63-17D364C0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67B-7640-4F5A-95DD-599AAAB1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4EEA9-F746-4C7E-ADAD-9A42269A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0FB94-CBD8-46E0-8449-FD3A0ECE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DD383-BD68-408C-847A-19AE42F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D75DA-0AB6-4AC7-B957-1A56A8EE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960ED-B47A-4870-BD90-1710FFDE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0B5BE-A049-48AC-9B94-C70B66D3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20C14-A87C-427F-B1D5-252BCB37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1FF62-2C1D-425F-BF4D-F9EA8002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F278-9877-42B9-B733-92FBCE9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74789-217F-4966-A0D1-192AF40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7BD-3E19-49F1-8962-3B9B7152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64E0A-79D9-41F8-9185-C19AFD34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97058-A145-47BA-9403-F461F189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8B4C-C5F5-4CF3-8A3B-C67883E2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BFFE7-0039-4644-81B5-070C66E8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F219B-BFFC-42F6-9775-6BA60C5F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C1C51-B45A-441C-A85A-0C9D481D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27A9D-06D7-4827-BB2C-9F0F8F46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9CEC5A-59EC-49F8-B122-F265A91C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EE1AB-3404-4B5F-B947-4C883F0A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0B224-7873-4393-AA9B-72FB8AF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B01-C441-423C-8151-827F7725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AD4E7-9CE9-45D9-BAF6-2DBAE14F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C7A75-146A-488A-8326-F13F076C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54254-DB26-487B-A6A7-89CF2577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52F6A-3C20-4BB1-BF29-B95F345D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37CEF-A5C4-4FBE-A487-AEF7E793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6E06A-2C24-4F6A-A91D-B6B7D5DA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80205-7320-4926-AB03-E1BD0A94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BE0FB-F2D6-4F2E-B761-C77340E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BA185-0215-4220-AEA0-0D20BBBE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589DC-6E13-4DA9-B85F-9C6EA534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31C-7CD5-47C7-AFFC-A06471C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C30E-1CDE-46F2-8985-6D18B106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ED7C-34D1-4AD6-B235-F9D93EE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014B8-BA8C-4188-9CD4-D5E09E82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E4854-A3A0-4948-A250-39787FE3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98659-A4AF-45D5-B831-7D180D7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E7488-05F5-4015-930F-0595F6D9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03F95-EF7A-4614-B31E-DFCFB9CD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2DF7F-DFEB-4A0D-A9BC-081F7E9F2A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21D39-67DB-4654-AD60-508BF0FA060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78774-06CB-4E5B-8AC5-E9AFEF81536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9FC25-8D5D-4AD9-9883-34A7C85DE8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68C2D-95EE-441A-B1CF-F233C41776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5A621-0D55-4C86-83F4-76455A271AD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75999-1F5A-46E0-9A38-CF5EAE49687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EBA5C-3DC7-4139-B6D3-6C62F31617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Table_one@gmail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allwisher.com/wall/21stCentrySkill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36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KNOWLEDGE BUILDING CENTERS WITH DAVID LOERTSCHER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440" y="1906200"/>
            <a:ext cx="749124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Everyone please log on to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</a:rPr>
              <a:t>https://sites.google.com/site/paknowledgebuildingcenters/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Characterist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1" name="Content Placeholder 5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3000" cy="4505400"/>
          </a:xfrm>
          <a:prstGeom prst="rect">
            <a:avLst/>
          </a:prstGeom>
          <a:ln w="0">
            <a:noFill/>
          </a:ln>
        </p:spPr>
      </p:pic>
      <p:sp>
        <p:nvSpPr>
          <p:cNvPr id="372" name="TextBox 6"/>
          <p:cNvSpPr/>
          <p:nvPr/>
        </p:nvSpPr>
        <p:spPr>
          <a:xfrm>
            <a:off x="-313560" y="1600200"/>
            <a:ext cx="9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project promotes mastery of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Century Skills that in turn drive deep understand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Characterist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und Instructional designs are used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derstanding by Desig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nk models (Loertscher, Koechlin, Zwaan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tive Inqui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te: Direct teaching of prescribed basic content does not usually work in  a KB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Characterist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KBC is available to students and adults anywhere, at any time, and on any preferred devi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5164200" y="2852640"/>
            <a:ext cx="347832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U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ngle-class explor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oss-class inqui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oss-district, community, state, world inquiry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hool projects/initiati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fessional develop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fessional learning commun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5364000" y="4500720"/>
            <a:ext cx="3535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s Always End with a Big Thin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cognitive Ref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 kn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we kn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I lea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we lea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 wha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’s n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5502240" y="2589120"/>
            <a:ext cx="255420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t’s Experience a KBC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 are all looking at our KBC on your computers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blem: What are 2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entury Skil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t one is finished for you – go to the workspace spreadshee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able recorders log in: </a:t>
            </a: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Table_one@gmail.co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 …etc.;  password: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r task as a Table: Synthesize a list of 2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entury Skills from all the docu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 have ten minutes… and probably won’t fini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ur Big Think (see Reflection Tab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wallwisher.com/wall/21stCentry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ost two responses on the w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Thanks for participat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Keep in Touch: reader.david@gmail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sump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chnology has changed everything; particularly Web 2.0 tools and cloud computing opportun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dents have chang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ducation must change to preparing kids and teens for excellence; not minimu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braries and computer labs must chan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alists in the school have not often been in the center of teaching and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can this chang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umption: teacher librarians and teacher technologists along with other specialists in the school have much to contribute to the classroom and to the quality of learning experienc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 Simple Solution: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Knowledge Building Centers: Environments Where Collaboration is a Natur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7" name="Content Placeholder 5" descr=""/>
          <p:cNvPicPr/>
          <p:nvPr/>
        </p:nvPicPr>
        <p:blipFill>
          <a:blip r:embed="rId1"/>
          <a:stretch/>
        </p:blipFill>
        <p:spPr>
          <a:xfrm>
            <a:off x="560520" y="3340080"/>
            <a:ext cx="8254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mple KBC – on your scree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9" name="Content Placeholder 5" descr="pic 5.png"/>
          <p:cNvPicPr/>
          <p:nvPr/>
        </p:nvPicPr>
        <p:blipFill>
          <a:blip r:embed="rId1"/>
          <a:srcRect l="-8125" t="0" r="-8125" b="0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is Si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KBC is simple to construct on a variety of technologie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ogle Site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odl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lo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k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3" descr="Pic 7.png"/>
          <p:cNvPicPr/>
          <p:nvPr/>
        </p:nvPicPr>
        <p:blipFill>
          <a:blip r:embed="rId1"/>
          <a:stretch/>
        </p:blipFill>
        <p:spPr>
          <a:xfrm>
            <a:off x="4121280" y="3157560"/>
            <a:ext cx="46447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Structure of the KBC Makes Collaboration a Natur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325116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 feel like help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vi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ngag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ive and tak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Diagram 4" descr=""/>
          <p:cNvPicPr/>
          <p:nvPr/>
        </p:nvPicPr>
        <p:blipFill>
          <a:blip r:embed="rId1"/>
          <a:stretch/>
        </p:blipFill>
        <p:spPr>
          <a:xfrm>
            <a:off x="3267000" y="3164040"/>
            <a:ext cx="46641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Tw Cen MT"/>
              </a:rPr>
              <a:t>Specialists are at the Center of Teaching and Learning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1"/>
          <a:stretch/>
        </p:blipFill>
        <p:spPr>
          <a:xfrm>
            <a:off x="731880" y="2762280"/>
            <a:ext cx="76737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Tw Cen MT"/>
              </a:rPr>
              <a:t>Personal Expertise and Collaborative Intelligence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Content Placeholder 3" descr=""/>
          <p:cNvPicPr/>
          <p:nvPr/>
        </p:nvPicPr>
        <p:blipFill>
          <a:blip r:embed="rId1"/>
          <a:stretch/>
        </p:blipFill>
        <p:spPr>
          <a:xfrm>
            <a:off x="407880" y="2590920"/>
            <a:ext cx="80535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4:13:12Z</dcterms:created>
  <dc:creator>David Loertscher</dc:creator>
  <dc:description/>
  <dc:language>en-US</dc:language>
  <cp:lastModifiedBy>Joanna Mangiapane</cp:lastModifiedBy>
  <dcterms:modified xsi:type="dcterms:W3CDTF">2010-04-14T13:05:48Z</dcterms:modified>
  <cp:revision>37</cp:revision>
  <dc:subject/>
  <dc:title>Knowledge Building Centers</dc:title>
</cp:coreProperties>
</file>